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2E3-24A9-4328-8771-589BDC72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D70-71A2-475E-96E5-D1E9407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B9E-A798-4701-9F41-07AFC624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119-DB45-44E8-8DF4-37D2FE6C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FE6-941C-4A0F-9E74-0B136E7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FDD-40EA-4677-A80A-2D1CD0F4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B81-BCCB-4188-87EA-7FB30B54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AFE-1D0E-44A8-8E6B-8B775F0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19D-E3F9-427F-9F65-E42282D4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54B-62EA-42AB-9786-66DD29A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087-1AE7-4916-A8B4-AE8EB91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03A-C47B-42EB-9F2A-2C820E3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E44-064B-4FEE-96D4-699FD3325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2664000" y="623880"/>
            <a:ext cx="381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664000" y="623880"/>
            <a:ext cx="381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EC Camps 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is a first class camping experience with Bible and missions teaching for young peop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Founded in 1948, WEC Camps have been providing young people with a life changing summer camping adventure for over 70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 </a:t>
            </a: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It is more than just a holiday, it could change your lif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77800" y="2768760"/>
            <a:ext cx="7988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 Camps are for young people from all backgrounds and have a strong basis of </a:t>
            </a: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Christian and Mission teaching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t camp we emphasise the central aspects of the Christian faith along with our ethos of good times, good teach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nd good involve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577800" y="2768760"/>
            <a:ext cx="7988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arrior Camp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 offers fun, adventure and something deeper 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ll those aged 9 to 1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Everything on Warrior camp is designed to help young people explore God and faith, whilst enjoying some first class fu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he camp has a unique blend of activities, teaching from the Bible, and focus on world mis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Teen Camp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is for 13 to 17 year olds who are looking for an exciting and meaningful way to spend their summer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ith plenty of choice and a laid back style Teen camp offers a unique camping experience. There are always opportunities to discuss and express your views, learn more about God and how to live for Him, plus the choice of a wide range of activities, trips and games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577800" y="2768760"/>
            <a:ext cx="7988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Join the WEC Camps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o provide campers with an excellent holiday, we need great workers! Come and use your skills and gifts to help us create a fantastic camping experi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ent leader, kitchen team, maintenance, life guard, helper, prayer support, mission teacher, set up &amp; pack down crew, administration, Bible teacher, musicians and many more roles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hat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Get in touch with WEC Camps today to find out mo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or to book your plac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Discounts available for group book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Visit: weccamps.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Call: 01244 53793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577800" y="2768760"/>
            <a:ext cx="798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Follow the action on social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1155600" y="3508200"/>
            <a:ext cx="683280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98100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89728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83876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729480" y="451656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577800" y="2827440"/>
            <a:ext cx="7988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EC Camp Vide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 Camps in Pictures (33 secon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s://www.youtube.com/watch?v=VgcAQxUneY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en Camp in 20 Sec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s://www.youtube.com/watch?v=EjaG2svOsY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3T15:57:48Z</dcterms:created>
  <dc:creator>Microsoft Office User</dc:creator>
  <dc:description/>
  <dc:language>en-US</dc:language>
  <cp:lastModifiedBy>Microsoft Office User</cp:lastModifiedBy>
  <dcterms:modified xsi:type="dcterms:W3CDTF">2019-08-23T16:30:02Z</dcterms:modified>
  <cp:revision>4</cp:revision>
  <dc:subject/>
  <dc:title>PowerPoint Presentation</dc:title>
</cp:coreProperties>
</file>